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869-225B-42F8-9924-5B62EAFF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0061-AA55-45B7-BC81-E1ED136E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BF3D-31B8-400E-A8BF-99A2BB9AD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02A-EB9E-4719-8020-58C8564C2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11A4-968E-4843-A6AE-EC19B2BB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D7C-A86A-4CC4-AD16-7CF0E26B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18C-7D21-48EE-B0A2-BE1CB47A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0DC-87DC-44CE-8C22-D08EEF69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918-893E-4B4E-8681-065B9A24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FB1-6A50-419B-9C93-199348CD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65E-A371-440D-B68A-11118AEC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7E5A-BC66-4523-9105-830FFFC2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3EE8-9808-44AC-AEBB-376112690C7D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8"/>
          <p:cNvSpPr/>
          <p:nvPr/>
        </p:nvSpPr>
        <p:spPr>
          <a:xfrm>
            <a:off x="993600" y="2482920"/>
            <a:ext cx="436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9"/>
          <p:cNvSpPr/>
          <p:nvPr/>
        </p:nvSpPr>
        <p:spPr>
          <a:xfrm>
            <a:off x="993600" y="3195720"/>
            <a:ext cx="455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ash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993600" y="484200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851040" y="1168560"/>
            <a:ext cx="8432640" cy="5054400"/>
          </a:xfrm>
          <a:prstGeom prst="rect">
            <a:avLst/>
          </a:prstGeom>
          <a:solidFill>
            <a:srgbClr val="486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1628640" y="3798720"/>
            <a:ext cx="3873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when an unknown prpeinter took a galley of type and scrambled it to make a ty specimen book. It has survived not only fiv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628640" y="2556000"/>
            <a:ext cx="433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628640" y="3032280"/>
            <a:ext cx="5216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1628640" y="4722840"/>
            <a:ext cx="387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7445520" y="153360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74840" y="0"/>
            <a:ext cx="9017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6"/>
          <p:cNvSpPr/>
          <p:nvPr/>
        </p:nvSpPr>
        <p:spPr>
          <a:xfrm>
            <a:off x="7051680" y="1906560"/>
            <a:ext cx="422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7051680" y="37148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7051680" y="46213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7051680" y="2435400"/>
            <a:ext cx="4221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mp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7051680" y="34369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5000" y="3619440"/>
            <a:ext cx="1662120" cy="2658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220400" y="3619440"/>
            <a:ext cx="2360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4813200" y="-38160"/>
            <a:ext cx="5372280" cy="5054760"/>
          </a:xfrm>
          <a:prstGeom prst="rect">
            <a:avLst/>
          </a:prstGeom>
          <a:solidFill>
            <a:srgbClr val="697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879480" y="39686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879480" y="48751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879480" y="35305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ounder Celci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7737480" y="173340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7737480" y="226224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lakov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7737480" y="4156200"/>
            <a:ext cx="1442880" cy="409320"/>
            <a:chOff x="7737480" y="4156200"/>
            <a:chExt cx="1442880" cy="409320"/>
          </a:xfrm>
        </p:grpSpPr>
        <p:sp>
          <p:nvSpPr>
            <p:cNvPr id="371" name="Shape 5019"/>
            <p:cNvSpPr/>
            <p:nvPr/>
          </p:nvSpPr>
          <p:spPr>
            <a:xfrm>
              <a:off x="8367120" y="4275360"/>
              <a:ext cx="183600" cy="1836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hape 5020"/>
            <p:cNvSpPr/>
            <p:nvPr/>
          </p:nvSpPr>
          <p:spPr>
            <a:xfrm>
              <a:off x="7838640" y="429012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hape 5033"/>
            <p:cNvSpPr/>
            <p:nvPr/>
          </p:nvSpPr>
          <p:spPr>
            <a:xfrm>
              <a:off x="8902080" y="427500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45"/>
            <p:cNvSpPr/>
            <p:nvPr/>
          </p:nvSpPr>
          <p:spPr>
            <a:xfrm>
              <a:off x="773748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46"/>
            <p:cNvSpPr/>
            <p:nvPr/>
          </p:nvSpPr>
          <p:spPr>
            <a:xfrm>
              <a:off x="825876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7"/>
            <p:cNvSpPr/>
            <p:nvPr/>
          </p:nvSpPr>
          <p:spPr>
            <a:xfrm>
              <a:off x="8783280" y="41562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Rectangle 48"/>
          <p:cNvSpPr/>
          <p:nvPr/>
        </p:nvSpPr>
        <p:spPr>
          <a:xfrm>
            <a:off x="7737480" y="324648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13200" y="992160"/>
            <a:ext cx="2565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5867280" y="0"/>
            <a:ext cx="2768760" cy="685800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1349280" y="21477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1349280" y="26766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349280" y="31845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349280" y="44276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1349280" y="533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9105840" y="206676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Jessica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1349280" y="4176720"/>
            <a:ext cx="173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5"/>
          <p:cNvGrpSpPr/>
          <p:nvPr/>
        </p:nvGrpSpPr>
        <p:grpSpPr>
          <a:xfrm>
            <a:off x="9105840" y="2419200"/>
            <a:ext cx="1443240" cy="409680"/>
            <a:chOff x="9105840" y="2419200"/>
            <a:chExt cx="1443240" cy="409680"/>
          </a:xfrm>
        </p:grpSpPr>
        <p:sp>
          <p:nvSpPr>
            <p:cNvPr id="388" name="Shape 5019"/>
            <p:cNvSpPr/>
            <p:nvPr/>
          </p:nvSpPr>
          <p:spPr>
            <a:xfrm>
              <a:off x="9735480" y="253872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hape 5020"/>
            <p:cNvSpPr/>
            <p:nvPr/>
          </p:nvSpPr>
          <p:spPr>
            <a:xfrm>
              <a:off x="9207000" y="255348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hape 5033"/>
            <p:cNvSpPr/>
            <p:nvPr/>
          </p:nvSpPr>
          <p:spPr>
            <a:xfrm>
              <a:off x="10270440" y="253836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4"/>
            <p:cNvSpPr/>
            <p:nvPr/>
          </p:nvSpPr>
          <p:spPr>
            <a:xfrm>
              <a:off x="910584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962748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33"/>
            <p:cNvSpPr/>
            <p:nvPr/>
          </p:nvSpPr>
          <p:spPr>
            <a:xfrm>
              <a:off x="10152000" y="24192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Rectangle 35"/>
          <p:cNvSpPr/>
          <p:nvPr/>
        </p:nvSpPr>
        <p:spPr>
          <a:xfrm>
            <a:off x="9105840" y="45403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in Nakag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6"/>
          <p:cNvGrpSpPr/>
          <p:nvPr/>
        </p:nvGrpSpPr>
        <p:grpSpPr>
          <a:xfrm>
            <a:off x="9105840" y="4892760"/>
            <a:ext cx="1443240" cy="411120"/>
            <a:chOff x="9105840" y="4892760"/>
            <a:chExt cx="1443240" cy="411120"/>
          </a:xfrm>
        </p:grpSpPr>
        <p:sp>
          <p:nvSpPr>
            <p:cNvPr id="396" name="Shape 5019"/>
            <p:cNvSpPr/>
            <p:nvPr/>
          </p:nvSpPr>
          <p:spPr>
            <a:xfrm>
              <a:off x="9735480" y="5012640"/>
              <a:ext cx="183960" cy="184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hape 5020"/>
            <p:cNvSpPr/>
            <p:nvPr/>
          </p:nvSpPr>
          <p:spPr>
            <a:xfrm>
              <a:off x="9207000" y="5027400"/>
              <a:ext cx="188640" cy="1548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hape 5033"/>
            <p:cNvSpPr/>
            <p:nvPr/>
          </p:nvSpPr>
          <p:spPr>
            <a:xfrm>
              <a:off x="10270440" y="5012280"/>
              <a:ext cx="159840" cy="15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val 40"/>
            <p:cNvSpPr/>
            <p:nvPr/>
          </p:nvSpPr>
          <p:spPr>
            <a:xfrm>
              <a:off x="910584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41"/>
            <p:cNvSpPr/>
            <p:nvPr/>
          </p:nvSpPr>
          <p:spPr>
            <a:xfrm>
              <a:off x="962748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42"/>
            <p:cNvSpPr/>
            <p:nvPr/>
          </p:nvSpPr>
          <p:spPr>
            <a:xfrm>
              <a:off x="10152000" y="489276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095880" y="972720"/>
            <a:ext cx="2308320" cy="2295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095880" y="3548160"/>
            <a:ext cx="23083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2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5813280" y="590400"/>
            <a:ext cx="5438880" cy="72280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0"/>
          <p:cNvSpPr/>
          <p:nvPr/>
        </p:nvSpPr>
        <p:spPr>
          <a:xfrm>
            <a:off x="1101600" y="32558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1101600" y="416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1101600" y="18558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Ip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1101600" y="238428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howca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101600" y="5153040"/>
            <a:ext cx="35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layfair Display"/>
              </a:rPr>
              <a:t>Anyone can get dressed up and glamorous, but it is how people dress in their days off that are the most intrigu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hart 1" descr=""/>
          <p:cNvPicPr/>
          <p:nvPr/>
        </p:nvPicPr>
        <p:blipFill>
          <a:blip r:embed="rId1"/>
          <a:stretch/>
        </p:blipFill>
        <p:spPr>
          <a:xfrm>
            <a:off x="1209600" y="719280"/>
            <a:ext cx="5491080" cy="5744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7288200" y="396396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7288200" y="2381400"/>
            <a:ext cx="40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288200" y="2857680"/>
            <a:ext cx="361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7288200" y="4970520"/>
            <a:ext cx="24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my text of the printing and 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pesetting Ipsum has b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n the industry's standard dumm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c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5"/>
          <p:cNvSpPr/>
          <p:nvPr/>
        </p:nvSpPr>
        <p:spPr>
          <a:xfrm>
            <a:off x="3832200" y="0"/>
            <a:ext cx="8359920" cy="636732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823160" y="5154480"/>
            <a:ext cx="284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6095880" y="3191040"/>
            <a:ext cx="60962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447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455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4T18:22:28Z</dcterms:created>
  <dc:creator>one studio</dc:creator>
  <dc:description/>
  <dc:language>en-US</dc:language>
  <cp:lastModifiedBy>Harist</cp:lastModifiedBy>
  <dcterms:modified xsi:type="dcterms:W3CDTF">2022-12-30T09:50:27Z</dcterms:modified>
  <cp:revision>42</cp:revision>
  <dc:subject/>
  <dc:title>PowerPoint Presentation</dc:title>
</cp:coreProperties>
</file>